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739918"/>
        <c:axId val="12595777"/>
      </c:barChart>
      <c:catAx>
        <c:axId val="6373991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595777"/>
        <c:crosses val="autoZero"/>
        <c:auto val="1"/>
        <c:lblAlgn val="ctr"/>
        <c:lblOffset val="100"/>
        <c:noMultiLvlLbl val="0"/>
      </c:catAx>
      <c:valAx>
        <c:axId val="125957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3991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F9B5-AFFA-484C-819D-E11CE8849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6004-F878-4D59-8D5C-0C47EBA7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5730-787F-45D4-84A1-2FF474004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069E-AB95-4106-B139-F01F6948B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D0C1-687C-470C-A5BD-15E0F680A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7F1-687A-4C2E-B7A3-1FF96274E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FAB5-8B4D-4DAF-A00F-806FBE883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734F-4A66-4FF1-8383-CE737B1D6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3F7F-9363-4C89-9B38-843C9E96F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2B62-9E9B-46C1-952A-66DE29DB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6D1A1-25C3-4588-9981-F08555EA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C054-801E-49E2-8C49-09941E3D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7B78E-0EDC-4720-824E-F9ABE238D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