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500"/>
        <c:axId val="73087852"/>
      </c:barChart>
      <c:catAx>
        <c:axId val="617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87852"/>
        <c:crosses val="autoZero"/>
        <c:auto val="1"/>
        <c:lblAlgn val="ctr"/>
        <c:lblOffset val="100"/>
        <c:noMultiLvlLbl val="0"/>
      </c:catAx>
      <c:valAx>
        <c:axId val="73087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64C-0EF6-4F08-ABC1-4FCA2B3A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A3C-F4D6-49D2-9172-CB28F54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4F6-49EE-4582-A685-524B0DF0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05A-E5B9-42B4-B64C-2E9FCAEB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DE9-86E3-447E-96B9-DC665061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895-1D3C-4B15-9853-39C383A7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B50-5ADB-4D58-A3C4-96CE3C5C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F28-BA9D-4137-A0A1-F390DA4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20E-210F-4E18-8AC3-CC77C131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F65-198E-43EE-B971-6B4FAB1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466-E32C-4CD3-9998-04962910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C6D-B21E-4525-8E19-5F16397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DFCA5-40B4-4B92-A054-A903A56616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