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057165"/>
        <c:axId val="20643490"/>
      </c:barChart>
      <c:catAx>
        <c:axId val="640571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43490"/>
        <c:crosses val="autoZero"/>
        <c:auto val="1"/>
        <c:lblAlgn val="ctr"/>
        <c:lblOffset val="100"/>
        <c:noMultiLvlLbl val="0"/>
      </c:catAx>
      <c:valAx>
        <c:axId val="206434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0571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761-28AA-42E1-AC63-1556010F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21D9-0FF3-46EF-8064-FD74A026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263C-6846-4758-84D4-3B8F3B30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F4E7-E081-448E-A2FA-98B537A9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942-2ECA-4B29-A9AC-5B576F9C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0691-D3BB-4A48-84FC-73215F06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90F-DE33-46AA-85CD-2BA6CA72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79AB-FCFB-4C5A-9527-22CD5994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B85E-77C8-4735-8BC4-B37B04A9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6A48-B209-40DC-A0D0-3AFF93F2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8C6-1804-421A-915C-0961FE88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C75F-1D9C-4ADE-A6F0-E238A071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01998-C037-4164-BC75-18C16CC943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