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0274"/>
        <c:axId val="72447745"/>
      </c:barChart>
      <c:catAx>
        <c:axId val="1390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47745"/>
        <c:crosses val="autoZero"/>
        <c:auto val="1"/>
        <c:lblAlgn val="ctr"/>
        <c:lblOffset val="100"/>
        <c:noMultiLvlLbl val="0"/>
      </c:catAx>
      <c:valAx>
        <c:axId val="72447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0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CD9-24CC-4405-8D0F-E0E74443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74E-590F-4EB1-9384-AB352322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2D0-8B6D-4F68-877E-B071AF7A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E88-E3A0-47A1-BF57-984269F6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E0E-7715-4D3D-A76F-F5DAEB78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E66-29BF-423C-B9FE-771F5B08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21D-F848-4B42-BF8A-C3643946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1D8-8AB4-4E32-A302-FDD50CE6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71A-C2AF-4F44-810C-46A2D604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0D1-1CF1-41C1-AA30-03C4D438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57AB-4D21-456A-9D11-863E4AE1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596-E461-4CD5-9ECF-AEF47156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A4AB3-6670-448F-88F8-DCEA8F7954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