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03680"/>
        <c:axId val="85550007"/>
      </c:barChart>
      <c:catAx>
        <c:axId val="90603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50007"/>
        <c:crosses val="autoZero"/>
        <c:auto val="1"/>
        <c:lblAlgn val="ctr"/>
        <c:lblOffset val="100"/>
        <c:noMultiLvlLbl val="0"/>
      </c:catAx>
      <c:valAx>
        <c:axId val="85550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03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543-0B9C-4DCA-AFE4-3BF20954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875-2E7F-4536-8A4B-4D829807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705-792D-4F51-9E55-13486D5E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56F-FAEF-4942-864D-EDB083B8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879-8C2D-4890-BF97-1BE4BFAE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122-6497-45E9-B912-DD590FDB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7F0-AB9C-425C-BF08-78743EEC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F70-8E16-4C01-9BE4-4EAC6354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A7E-E7D3-436A-B9B1-7BB88BC2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47C-076D-4929-BE1A-574332FE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E5B-F1DF-491D-A6C7-080692A3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A04-CFEB-44BF-8342-DB6FC30E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5B43C-E2DF-4808-8190-29DC28BEFD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