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20056"/>
        <c:axId val="58285209"/>
      </c:barChart>
      <c:catAx>
        <c:axId val="45520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85209"/>
        <c:crosses val="autoZero"/>
        <c:auto val="1"/>
        <c:lblAlgn val="ctr"/>
        <c:lblOffset val="100"/>
        <c:noMultiLvlLbl val="0"/>
      </c:catAx>
      <c:valAx>
        <c:axId val="58285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20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48A-71B6-4B82-9F28-1C78C2F7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69E-E195-48A6-B9A3-B772351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201-EB31-4633-B26D-CAC194FF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E24-7FDB-4183-A6A6-E3C1D05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A57-1AA5-47D9-A5CC-56E37209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0C2-71FD-445A-ADD3-D251749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5FA-BBAC-4EE0-83F4-41E3447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6D3-140B-41AE-869A-07ABA06E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272-C69F-4515-8895-B267F80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989-F571-47DB-84E5-2AC5DB8A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A97-6AEE-4522-820F-794A597B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1BE-1F15-4B91-B408-A592849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23C25-4562-48F9-B8C7-D29BC33EC4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