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42157"/>
        <c:axId val="30736166"/>
      </c:barChart>
      <c:catAx>
        <c:axId val="395421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36166"/>
        <c:crosses val="autoZero"/>
        <c:auto val="1"/>
        <c:lblAlgn val="ctr"/>
        <c:lblOffset val="100"/>
        <c:noMultiLvlLbl val="0"/>
      </c:catAx>
      <c:valAx>
        <c:axId val="307361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421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54AA-9E6B-44AB-A0C4-CFC943AE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BC2-DE2A-422C-9AA4-2117D3EF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D5B-B8C3-4004-85D1-08E2734E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A435-99E3-4566-A3DB-D64E6B20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0A20-F78F-441A-9DD3-02B297C3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030-8E23-455C-9F11-71CA8C09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6F5-D534-467E-9493-DE195463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A23-A8EC-4F34-A8D7-450F022D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3A0-6CB7-4E73-854F-4556DA6F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F0F-957E-4F35-B423-EF394DB7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9EC-DAC2-438F-BDA8-2C26233F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D2A-353D-4C71-9192-8C9D4434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92A3E-AE47-4ECC-8413-DEDCEE9B73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